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79476"/>
        <c:axId val="81035670"/>
      </c:barChart>
      <c:catAx>
        <c:axId val="94179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35670"/>
        <c:crosses val="autoZero"/>
        <c:auto val="1"/>
        <c:lblAlgn val="ctr"/>
        <c:lblOffset val="100"/>
        <c:noMultiLvlLbl val="0"/>
      </c:catAx>
      <c:valAx>
        <c:axId val="81035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9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580-4268-4DA4-9721-4421106D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46C-92AE-4A5A-A96D-1E3EFF3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212-FE6B-41AE-BB56-07084404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340-DADF-430F-A3F4-235F19C6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298-4A11-4AEC-8F29-B18A2B54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5B1-1BFA-4D8E-9435-34F95EA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2F3-A0BF-4927-8EED-07AF1D2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AAB-7B02-423D-85A5-81C184E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5EB-34D9-43A8-9BC9-D7CF9C3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7F4-3010-48B2-9730-617A7B2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F21-FC5C-4182-BAF9-DEA2D72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780-5E0E-420E-803C-F91C82E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D7FAF-B767-482B-89EF-E5B07BB5C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