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72055"/>
        <c:axId val="3190125"/>
      </c:barChart>
      <c:catAx>
        <c:axId val="268720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0125"/>
        <c:crosses val="autoZero"/>
        <c:auto val="1"/>
        <c:lblAlgn val="ctr"/>
        <c:lblOffset val="100"/>
        <c:noMultiLvlLbl val="0"/>
      </c:catAx>
      <c:valAx>
        <c:axId val="3190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720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E15-EFB6-4071-A5CC-5D31BA1B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032-A1FB-41E9-BAF9-1AD3050C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ED1-6ECC-434F-82BA-787BB63A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D66-06BC-48DD-8FD8-C1179329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0F2-D35C-4205-A032-11B7C536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6BE-A814-4D13-B48F-FC36AF71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E0A-6585-4BCD-A645-C8016976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6FC-4962-462D-A950-43D37DF3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454-CA50-44C1-BB34-21ECE476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A9E-42A9-44F6-8872-764903FC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C35-9B91-4866-8097-400CEC09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14BE-3907-45F9-B7BB-63D82FEB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73518-ADA3-47D8-B620-2562044EB9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