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16709"/>
        <c:axId val="22285278"/>
      </c:barChart>
      <c:catAx>
        <c:axId val="88316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85278"/>
        <c:crosses val="autoZero"/>
        <c:auto val="1"/>
        <c:lblAlgn val="ctr"/>
        <c:lblOffset val="100"/>
        <c:noMultiLvlLbl val="0"/>
      </c:catAx>
      <c:valAx>
        <c:axId val="22285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16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6A8-C4E8-491D-B42C-E663ED42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82A-BC7A-44D6-99D9-83A5A2EE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CB3-CFC2-467E-B583-59C51D3A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7B5-060A-4211-8FA6-E371ADCB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31A-733F-4945-BCB8-D627613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823-E94E-4170-96FA-677B7528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1B2-03F6-43F8-BF0C-18AE216F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C76-079E-47F3-99DE-B8481A79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ABD-CEBC-46A3-ABCC-D155BD23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4EE-9169-4DCC-8130-C05438FC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47B-A36D-4E6C-8923-8C94C56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330-BE7A-48BA-AF32-C7D7C4C2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5390C-192B-43BD-BC53-88F36D38B2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