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11362"/>
        <c:axId val="87006806"/>
      </c:barChart>
      <c:catAx>
        <c:axId val="51511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06806"/>
        <c:crosses val="autoZero"/>
        <c:auto val="1"/>
        <c:lblAlgn val="ctr"/>
        <c:lblOffset val="100"/>
        <c:noMultiLvlLbl val="0"/>
      </c:catAx>
      <c:valAx>
        <c:axId val="87006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11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2DC-67AA-45C2-AA2B-9D866273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996-E32C-4245-B05C-23074A1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DDC-1617-4887-BE39-DF0CCF31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2E7-41A5-4202-93A0-C142C0B7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F17-F32F-4EA7-A082-24B18F26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452-CB7A-4A0D-9FA0-7D255225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B60-B78D-4604-A301-03C59B7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AAD-0B75-4312-A72A-BEC2559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E55-F63B-4D8A-A307-AA8D693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0B4-3C71-4656-B62D-41DA73DD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EA3-C91C-43B4-A982-C82690A9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E368-1939-4D10-A8BD-1E6A806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CBA00-D881-41DD-9FE5-8FD443E184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