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3005"/>
        <c:axId val="1420246"/>
      </c:barChart>
      <c:catAx>
        <c:axId val="1673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0246"/>
        <c:crosses val="autoZero"/>
        <c:auto val="1"/>
        <c:lblAlgn val="ctr"/>
        <c:lblOffset val="100"/>
        <c:noMultiLvlLbl val="0"/>
      </c:catAx>
      <c:valAx>
        <c:axId val="1420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3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FC8-1935-450C-AC8F-B2EFC4A4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A9D-6DDF-45A7-B697-14E67912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998-BD91-4D8E-A6DC-74F33F5B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AFE-10AF-43B7-8102-8D7C627B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FA2-B329-4DCA-BA38-820D9722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BB2-AD41-4CAD-A96C-F3EE3D6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8FD-ED50-4EF5-BDB9-0A67C4D3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4F8-251A-4600-ACB9-A6C0217B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308-7786-449E-ACE7-D88B906A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11F-9628-4696-A1C3-9AC68E1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D50-389C-448C-B91A-DAA6AD6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076-6BBB-4EB0-85CE-B816968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E6F4E-F583-4D1D-A72E-5629538B4B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