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29382"/>
        <c:axId val="18424159"/>
      </c:barChart>
      <c:catAx>
        <c:axId val="419293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24159"/>
        <c:crosses val="autoZero"/>
        <c:auto val="1"/>
        <c:lblAlgn val="ctr"/>
        <c:lblOffset val="100"/>
        <c:noMultiLvlLbl val="0"/>
      </c:catAx>
      <c:valAx>
        <c:axId val="18424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293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C110-F6EE-4B4F-B580-FAE157B4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44C5-0D6C-40BE-B19E-AE5235C29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253-D67D-46DE-BF5B-AA79AD09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C08-E91A-4F51-9BFB-519B8EA27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D0FD-D216-4B55-B938-7F19BEE1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F0C3-6C81-4A15-A74C-F8A53002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104-2A51-48D7-AA84-FD54F68C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3046-1CF7-4E30-A5AF-ABB69CBDC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F795-8821-412D-90D4-DD3374963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7B17-3C7B-4D72-8DB5-65C912AA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2788-1363-465F-BF0C-BA682FAB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FE98-26C1-4278-BA00-5265235D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4C052-376A-452D-93AB-2E955A043D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