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34295"/>
        <c:axId val="58129112"/>
      </c:barChart>
      <c:catAx>
        <c:axId val="64934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29112"/>
        <c:crosses val="autoZero"/>
        <c:auto val="1"/>
        <c:lblAlgn val="ctr"/>
        <c:lblOffset val="100"/>
        <c:noMultiLvlLbl val="0"/>
      </c:catAx>
      <c:valAx>
        <c:axId val="58129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34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E1A-3862-42ED-8E02-957FFA71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6A8-7E52-4A2D-9BCE-D2E07721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933-F506-4D35-94E3-AF5E1763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A9A-BFD5-490F-A508-31B561BC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23E-0B21-4511-8561-57576CA1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AB6-047C-419C-8EE2-D68A729C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14E-CD2F-442B-8368-C0D84ACB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D38-AFD1-44EE-B5BC-C7481964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3C1-2FC8-4E86-BF64-2B5D4999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EF1-0BE1-412F-B401-E4303B2B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DAF-5350-41F9-A24D-2A1200C3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015-8D0A-4561-9D33-79511150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C5B15-65E5-49BC-A6BD-A3ADD9E4C6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