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469"/>
        <c:axId val="24859181"/>
      </c:barChart>
      <c:catAx>
        <c:axId val="399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59181"/>
        <c:crosses val="autoZero"/>
        <c:auto val="1"/>
        <c:lblAlgn val="ctr"/>
        <c:lblOffset val="100"/>
        <c:noMultiLvlLbl val="0"/>
      </c:catAx>
      <c:valAx>
        <c:axId val="24859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6D6-5982-4DC7-A30E-79C54B38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7E1-D785-4C18-BBBB-00C18685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A44-FF1C-4220-8A4B-D045BC4F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C59-7D95-407B-A038-A3A27EB4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CD0-3C1A-41B5-862C-F31AB1E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9D9-0391-4510-9249-22045EAD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175-032A-43B9-A8D5-08A131F8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7B8-104A-433F-91E7-2E150CB3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0F7-67DC-4EE1-945F-92FDF602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961-717C-431D-90E9-F9228B3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14B-AD0D-41EE-8D0F-F3EB925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E1A-B256-4CB4-8762-465C809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B8438-7129-400B-9342-8824ACA53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