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64492"/>
        <c:axId val="55917921"/>
      </c:barChart>
      <c:catAx>
        <c:axId val="67664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7921"/>
        <c:crosses val="autoZero"/>
        <c:auto val="1"/>
        <c:lblAlgn val="ctr"/>
        <c:lblOffset val="100"/>
        <c:noMultiLvlLbl val="0"/>
      </c:catAx>
      <c:valAx>
        <c:axId val="55917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4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63F-62DC-4F89-8A30-24D46BBD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8086-78FA-45A6-8ED8-4D782286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35F-26B7-4C44-BD76-63435FB3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4E3-8A5B-4798-860D-FF26016A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0A9-83DB-4DEF-A7F0-1E6E284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AC4-FA24-47B8-9845-C7504866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2B0-CFEA-4DE4-A1BA-6F0030D1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67D-BEA5-49FD-B665-2D11853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D95-B0CC-42B7-8D63-39B7762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D44-7CE2-421F-B21A-962E9EE2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044-4B73-482F-8C0F-FC15EC51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D13-5A49-4E5D-953F-50F282F7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47D3B-4763-4734-9DC9-BFABA61985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