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474881"/>
        <c:axId val="91871049"/>
      </c:barChart>
      <c:catAx>
        <c:axId val="944748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871049"/>
        <c:crosses val="autoZero"/>
        <c:auto val="1"/>
        <c:lblAlgn val="ctr"/>
        <c:lblOffset val="100"/>
        <c:noMultiLvlLbl val="0"/>
      </c:catAx>
      <c:valAx>
        <c:axId val="918710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748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FE6E-8EEC-45AC-B0FA-5EA77575F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D04D-85B9-4F01-A9C2-0EA18EB4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35B0-2A1E-45F9-9B56-9D8105F45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D274-57EE-4B71-92BF-340CF5C7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B935-657F-4069-9D99-DA95298D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2A4E-FC7E-425F-8629-BBAB8ED8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9B17-C5CD-4837-8312-43323911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5705-9B75-4437-B2E2-B5F09F48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63C6-76E1-4B42-99D0-19ECCD73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288D-4652-42E0-9E47-A9CD20CD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B2EC-5C0E-4BD7-9868-0F686116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5C6F-4D85-4FBC-84E2-4BA6EE0E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736EF-0AB4-452C-BBF5-E429196D34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