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00279"/>
        <c:axId val="38366106"/>
      </c:barChart>
      <c:catAx>
        <c:axId val="18000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66106"/>
        <c:crosses val="autoZero"/>
        <c:auto val="1"/>
        <c:lblAlgn val="ctr"/>
        <c:lblOffset val="100"/>
        <c:noMultiLvlLbl val="0"/>
      </c:catAx>
      <c:valAx>
        <c:axId val="383661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00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B01-82EA-4AD0-9D31-CE8C8E87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59D-12B8-4C52-A38D-C823ADD4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99D2-2A8D-4503-97B6-262F2EBE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31D7-B748-4079-863F-41962132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061-BF0C-4FA4-AD2A-58147B6F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ECCF-FA85-4D4D-94CC-296FFB05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D02E-B225-480C-BC88-42869FE5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8B63-4874-41CD-87A7-A051A660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9EF-1C2A-44C0-B08B-56BD150E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6184-0F8E-4226-9ABA-6A414F96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723-8005-460B-A8DB-71060E59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2C2-E052-400C-8253-B2ED61AD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352A6-565D-43A8-910E-3C75872ACA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