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99376"/>
        <c:axId val="50220290"/>
      </c:barChart>
      <c:catAx>
        <c:axId val="42499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20290"/>
        <c:crosses val="autoZero"/>
        <c:auto val="1"/>
        <c:lblAlgn val="ctr"/>
        <c:lblOffset val="100"/>
        <c:noMultiLvlLbl val="0"/>
      </c:catAx>
      <c:valAx>
        <c:axId val="50220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99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1BE-0762-4A18-8F2F-1780D2F3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DAE-7889-4784-B0DC-F55B775D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B8B1-CD62-4F8F-A184-0F8DED68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ABB-C79F-45E3-B738-1A5DCC4D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B35-4397-45D2-B4BB-1A27B66A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199-8A2D-4827-8869-ABD3C9EB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976F-02B9-4C69-BB8D-6B1669E1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1440-FDF0-4462-9D14-26912F2C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3DF-F829-42A4-B3ED-D3B74F2B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4CE-17B2-47A7-8C0A-014F96B6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006-A170-4F15-9AC3-44ED34C3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069-EBF9-4D21-80BA-4038A05E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D19DC-AE9F-43FF-8BA7-071F266002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