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2673"/>
        <c:axId val="77961837"/>
      </c:barChart>
      <c:catAx>
        <c:axId val="4512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1837"/>
        <c:crosses val="autoZero"/>
        <c:auto val="1"/>
        <c:lblAlgn val="ctr"/>
        <c:lblOffset val="100"/>
        <c:noMultiLvlLbl val="0"/>
      </c:catAx>
      <c:valAx>
        <c:axId val="77961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2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7C4-2B02-47BF-A76E-B53A7EFA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05F-7098-49FA-A93E-450BA8FD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40C-2539-47A5-9901-F26294EB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558-36B6-489E-A6B0-AECA0261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302-B08F-4499-8AFD-3E4E1C9E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744-AB1D-4E95-B8BC-EA84A854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34D-31B1-4935-A0FE-2DC673D1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1C0-5C32-4B11-B997-A04F15C9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295-5E68-44A8-881B-918E42DC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2D0-9799-4FE2-94E9-AF40C11B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7EE-03E1-47C3-8F34-3D8849A4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DDB-B5B5-4123-BF4C-65A9DA2A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FDD32-F5EB-4654-8D4B-0DDC1C1831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