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33706"/>
        <c:axId val="98049332"/>
      </c:barChart>
      <c:catAx>
        <c:axId val="66833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49332"/>
        <c:crosses val="autoZero"/>
        <c:auto val="1"/>
        <c:lblAlgn val="ctr"/>
        <c:lblOffset val="100"/>
        <c:noMultiLvlLbl val="0"/>
      </c:catAx>
      <c:valAx>
        <c:axId val="98049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33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738-F54E-4035-87AC-783DFC51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A1D0-DDF2-47A6-B68D-8BC952D9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02C-6D35-4021-A85D-F3BE2DB5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DBD-350D-4C25-BD55-B8EBE413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C076-F474-4099-8FD3-E455A5A1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061-94C9-4007-88DE-06AF6FDD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C48-DFD2-475C-8681-CAE23AAE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C58-039E-490D-B351-51D7405F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D0D-7A59-48F5-ABB2-BDADBE49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900-FE61-4DDA-8149-A54F74A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9B8-E7BF-409E-90F6-950163F8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629-554A-41F2-BC6A-5119CFE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01AF8-CB68-4FD3-9A52-0CD7CED39C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